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AE8-5CB5-4F86-9F25-85854F73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F43C-DACA-4D36-8B7F-8BFA4F29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A104-714B-4967-9BF0-EC2C7182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0B0-C197-4D0A-B146-7FD99E2F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C74C-118D-49D5-934E-A3F7B8AB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5F44-562B-40D4-B202-0DB42A6C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0D2D-F0D6-4530-8600-69339B1F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BF1-9670-40AA-8686-8CD82098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ABA-60C5-4A74-A86A-67E61EA9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283-0F62-48E6-BC5A-05964A97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E210-90D5-480C-9ACA-69D532DF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780-5307-4266-8459-5DA505A8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499A-1F12-4078-9BAF-9FED054E9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122720" y="0"/>
            <a:ext cx="5089680" cy="7543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0"/>
            <a:ext cx="2819520" cy="110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33"/>
                </a:solidFill>
                <a:latin typeface="Arial"/>
              </a:rPr>
              <a:t>فيكَ احتَميتُ يا ألله أنتَ إلهي إني آتٍ إليك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33"/>
                </a:solidFill>
                <a:latin typeface="Arial"/>
              </a:rPr>
              <a:t>فيكَ اعتصَمْتُ يا أللهُ  فأنتَ سيدي ولا خيرَ لي سِواك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81560" y="0"/>
            <a:ext cx="5662440" cy="792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52280"/>
            <a:ext cx="3276720" cy="119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"/>
              </a:rPr>
              <a:t>فيكَ اللهم كلُ رجائي فيكَ اللهمَ كلُ سعادتي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304920"/>
            <a:ext cx="358128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نتَ أمامي كلَّ حينٍ وعن يميني فلا أتزعزع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يبتهجُ قلبي بحُضورِكَ تُعلِّمُني سبيلَ الحي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81560" y="0"/>
            <a:ext cx="5662440" cy="7924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52280"/>
            <a:ext cx="3276720" cy="119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"/>
              </a:rPr>
              <a:t>فيكَ اللهم كلُ رجائي فيكَ اللهمَ كلُ سعادتي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13:49:58Z</dcterms:created>
  <dc:creator>HANI SAFI</dc:creator>
  <dc:description/>
  <dc:language>en-US</dc:language>
  <cp:lastModifiedBy>HANI SAFI</cp:lastModifiedBy>
  <dcterms:modified xsi:type="dcterms:W3CDTF">2003-05-30T14:00:15Z</dcterms:modified>
  <cp:revision>1</cp:revision>
  <dc:subject/>
  <dc:title>Slide 1</dc:title>
</cp:coreProperties>
</file>